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57438-4AE8-4F56-8567-BEBD6EEC5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F79BA-9AB6-415B-9B90-DDF8FCC1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44017-FE9D-4D60-825E-1277321D7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63F63-8305-4F52-9B02-A348C7A79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E242F-2B59-4809-9CD7-59BA76797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79B63-4D03-4133-892D-29EF9E203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04219-C47C-4BDA-B043-7CE541226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BE3CF-74E0-44E0-BFDA-904002D4F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9A007-628C-42F8-960C-BB59FCEA7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7A409-FBF0-454D-AE07-042AA3E61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A3F19-2803-4837-8918-52EAA5E50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03EF8-E56F-4B03-B0FA-D3515B23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9D826-3D7A-4AB0-873B-1188A34E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511FE-3CCD-4503-B275-F27D47AD1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4226B-8679-4B88-A92D-A3CE3F1DA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F0356-C51C-40ED-B885-D070CD1C7A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743D3-C9C7-40B8-86D4-38EB9C5A2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05E0B-4759-4829-A929-BD6609921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A0D0-0FBB-4867-ADD2-3AB4D88BD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9C584-AF6C-4572-9011-A8EEAC30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C3F19-B127-40DE-A5B6-D9BFAA4B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312D-5AE2-44DA-BC95-2EAC9D29D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B5582-9DB9-416B-97C6-FA7D1667E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9807B-7093-4C2B-B1B1-C471AD1BC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7F3C-00FC-4AD4-BF11-A4BEF50221F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9376-3EA5-468C-8A4E-15A654BF400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IMFONIA</a:t>
            </a:r>
            <a:r>
              <a:rPr b="0" lang="en-US" sz="1800" spc="-1" strike="noStrike">
                <a:solidFill>
                  <a:srgbClr val="feec94"/>
                </a:solidFill>
                <a:latin typeface="Arial"/>
              </a:rPr>
              <a:t> </a:t>
            </a:r>
            <a:endParaRPr b="1" lang="en-US" sz="1800" spc="-1" strike="noStrike">
              <a:solidFill>
                <a:srgbClr val="feec94"/>
              </a:solidFill>
              <a:latin typeface="Times New Roman"/>
            </a:endParaRPr>
          </a:p>
        </p:txBody>
      </p:sp>
      <p:sp>
        <p:nvSpPr>
          <p:cNvPr id="120" name="PlaceHolder 2"/>
          <p:cNvSpPr>
            <a:spLocks noGrp="1"/>
          </p:cNvSpPr>
          <p:nvPr>
            <p:ph type="subTitle"/>
          </p:nvPr>
        </p:nvSpPr>
        <p:spPr>
          <a:xfrm>
            <a:off x="1371600" y="38872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Times New Roman"/>
            </a:endParaRPr>
          </a:p>
        </p:txBody>
      </p:sp>
      <p:sp>
        <p:nvSpPr>
          <p:cNvPr id="12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Times New Roman"/>
            </a:endParaRPr>
          </a:p>
        </p:txBody>
      </p:sp>
      <p:sp>
        <p:nvSpPr>
          <p:cNvPr id="12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24" name="Picture 10" descr=""/>
          <p:cNvPicPr/>
          <p:nvPr/>
        </p:nvPicPr>
        <p:blipFill>
          <a:blip r:embed="rId1">
            <a:grayscl/>
            <a:lum contrast="-18000"/>
          </a:blip>
          <a:stretch/>
        </p:blipFill>
        <p:spPr>
          <a:xfrm>
            <a:off x="5219640" y="907920"/>
            <a:ext cx="1440000" cy="14400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Times New Roman"/>
            </a:endParaRPr>
          </a:p>
          <a:p>
            <a:pPr marL="609480" indent="-609480" algn="just">
              <a:lnSpc>
                <a:spcPct val="100000"/>
              </a:lnSpc>
              <a:spcBef>
                <a:spcPts val="3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Times New Roman"/>
            </a:endParaRPr>
          </a:p>
          <a:p>
            <a:pPr lvl="1" marL="990720" indent="-533520" algn="just">
              <a:lnSpc>
                <a:spcPct val="100000"/>
              </a:lnSpc>
              <a:spcBef>
                <a:spcPts val="300"/>
              </a:spcBef>
              <a:buClr>
                <a:srgbClr val="feec94"/>
              </a:buClr>
              <a:buSzPct val="6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Times New Roman"/>
            </a:endParaRPr>
          </a:p>
        </p:txBody>
      </p:sp>
      <p:sp>
        <p:nvSpPr>
          <p:cNvPr id="12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9T10:57:28Z</dcterms:modified>
  <cp:revision>47</cp:revision>
  <dc:subject/>
  <dc:title>SALARIUL</dc:title>
</cp:coreProperties>
</file>